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9.png" ContentType="image/png"/>
  <Override PartName="/ppt/media/image1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392D-6784-43AD-9068-6FBB6EBA4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CD94-F8A5-4A77-812B-2C6181636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AEF6-14F0-4D8A-864D-EE797CB1E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30A0-005E-4276-A7F5-03C4002C6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46D6-FC38-4B93-B24E-9F20D5F47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BD29-9905-43D1-BEE2-704363867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F5FF-12B1-4694-953A-2B28F55EE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DC6D-44F3-4FB3-A94D-65B48C38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7A3F-B899-452D-B151-36B72F41A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82C0-C494-4701-B855-380A4575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228C-865A-4B73-8717-8DA0A094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4A73-EBF1-44CC-A64E-8A5C45D6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02ACF-7058-4C11-80CB-E7DE5B600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ysteresis Mo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as for induction mo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447920" y="3581280"/>
            <a:ext cx="6324480" cy="2351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90720" y="35812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ooth cyli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19520" y="373392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steresis Motor at Synchronous 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15840" y="1447920"/>
            <a:ext cx="3092760" cy="48765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027760" y="1600200"/>
            <a:ext cx="3279600" cy="218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8" name=""/>
          <p:cNvGraphicFramePr/>
          <p:nvPr/>
        </p:nvGraphicFramePr>
        <p:xfrm>
          <a:off x="4343400" y="1828800"/>
          <a:ext cx="3733920" cy="159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1828800"/>
                    <a:ext cx="3733920" cy="15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3962520" y="3200400"/>
            <a:ext cx="464796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haft load causes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a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90°, the rotor pulls out if synchronism, the magnet torque drops to zero, and the machine develops hysteresis torque.  This torque is not sufficient to carry the lo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rque-Speed Characterist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629400" cy="43452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781680" y="274320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”  Operating 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5867280" y="3352680"/>
            <a:ext cx="10670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21932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 Hysteresis Torque allows the motor to synchronize any load it can acceler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38280" y="2209680"/>
            <a:ext cx="6858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nciple of Ope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200400" y="1295280"/>
            <a:ext cx="2565360" cy="51818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80880" y="144792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tator Flux establishes these magnetic p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71800" y="2133720"/>
            <a:ext cx="685800" cy="8380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2743200"/>
            <a:ext cx="2209680" cy="2971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67280" y="388620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Rotor poles “induced” by Stator Fl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4647960" y="3886200"/>
            <a:ext cx="1143000" cy="45720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4647960" y="4572000"/>
            <a:ext cx="1143000" cy="45720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in the stator pol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 the rotor block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743200" y="1371600"/>
            <a:ext cx="3382920" cy="5181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57200" y="42670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tator poles moving CC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33720" y="5257800"/>
            <a:ext cx="1981080" cy="685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133720" y="3581280"/>
            <a:ext cx="990360" cy="6098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943600" y="2819520"/>
            <a:ext cx="27432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Rotor poles follow the rotating flux, but lag behind by angle </a:t>
            </a:r>
            <a:r>
              <a:rPr b="0" lang="el-GR" sz="2400" spc="-1" strike="noStrike">
                <a:solidFill>
                  <a:srgbClr val="0000cc"/>
                </a:solidFill>
                <a:latin typeface="Arial"/>
                <a:ea typeface="Arial"/>
              </a:rPr>
              <a:t>δ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4647960" y="3352680"/>
            <a:ext cx="1143000" cy="60984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571640" y="4038480"/>
            <a:ext cx="1219320" cy="114300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6553440" cy="37148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in the stator pol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 the rotor block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563868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rotor is released, it will accelerate to synchronous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ysteresis Power Loss, 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971800" y="1447920"/>
          <a:ext cx="342900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1447920"/>
                    <a:ext cx="342900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762120" y="2743200"/>
            <a:ext cx="777240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frequency of flux reversal in the rotor (H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maximum value of flux density in the air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gap (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heat-power loss due to hysteresis (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con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chanical Power develop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590920" y="1371600"/>
          <a:ext cx="4343400" cy="43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343400" cy="43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chanical Power Developed (cont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219320" y="1523880"/>
          <a:ext cx="39560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23880"/>
                    <a:ext cx="39560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4648320" y="4419720"/>
            <a:ext cx="396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ndependent of frequency and spe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steresis Motor at Synchronous 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200400" y="1295280"/>
            <a:ext cx="2735280" cy="53341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914400" y="175248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load and negligible rotational l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867280" y="16002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943600" y="304812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ed rotor magnets remain locked with the rotating poles produced by the st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steresis Motor at Synchronous 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76720" y="1523880"/>
            <a:ext cx="3141720" cy="495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62120" y="17524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 a step increase in shaft loa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91320" y="1523880"/>
            <a:ext cx="3047760" cy="54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otor slows down and the induced rotor magnets lag the rotating poles of the stator by an angle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a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rotor returns to synchronous speed at the new torque ang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1T19:10:46Z</dcterms:created>
  <dc:creator>Robert C Helgeland</dc:creator>
  <dc:description/>
  <dc:language>en-US</dc:language>
  <cp:lastModifiedBy>Owner</cp:lastModifiedBy>
  <dcterms:modified xsi:type="dcterms:W3CDTF">2011-11-09T16:03:42Z</dcterms:modified>
  <cp:revision>3</cp:revision>
  <dc:subject/>
  <dc:title>Hysteresis Motors</dc:title>
</cp:coreProperties>
</file>