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B53-08F1-472B-8326-4501F406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4BA5-5F67-4A0B-92AD-3487CA60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9E4F-2405-4CA2-A31B-A747152D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17C-885D-4BA2-B0FE-CA9A5492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718-772E-478F-9157-19899E5E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8FCF-09E4-4F62-A61E-EC81DB6D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DA62-F863-4189-A602-4F73FB3B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4A1B-ADD2-4C8D-A6D2-B539361C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49DE-6B7A-4E08-99FD-E2778809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5C4A-8B8B-4DA2-B022-8BEB2527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7279-78FA-41F1-A753-7DD72703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78F-CE78-436E-BB44-8D4119D9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8D70-2983-451B-97A2-55A975F19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steresis Mo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 for induction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3581280"/>
            <a:ext cx="6324480" cy="2351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90720" y="3581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oth cyl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37339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steresis Motor at Synchronou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5840" y="1447920"/>
            <a:ext cx="3092760" cy="4876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343400" y="1828800"/>
          <a:ext cx="3733920" cy="15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828800"/>
                    <a:ext cx="373392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962520" y="3200400"/>
            <a:ext cx="46479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haft load cause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90°, the rotor pulls out if synchronism, the magnet torque drops to zero, and the machine develops hysteresis torque.  This torque is not sufficient to carry the 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rque-Speed Characteri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629400" cy="4345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781680" y="27432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”  Operating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867280" y="335268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193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Hysteresis Torque allows the motor to synchronize any load it can accel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22096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ciple of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565360" cy="5181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14479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tor Flux establishes these magnetic p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2133720"/>
            <a:ext cx="685800" cy="838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2743200"/>
            <a:ext cx="2209680" cy="2971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388620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Rotor poles “induced” by Stator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647960" y="3886200"/>
            <a:ext cx="1143000" cy="4572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647960" y="4572000"/>
            <a:ext cx="1143000" cy="4572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in the stator pol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 the rotor bloc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3382920" cy="5181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4267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tor poles moving CC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5257800"/>
            <a:ext cx="198108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133720" y="3581280"/>
            <a:ext cx="99036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2819520"/>
            <a:ext cx="27432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Rotor poles follow the rotating flux, but lag behind by angle </a:t>
            </a:r>
            <a:r>
              <a:rPr b="0" lang="el-GR" sz="2400" spc="-1" strike="noStrike">
                <a:solidFill>
                  <a:srgbClr val="0000cc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647960" y="3352680"/>
            <a:ext cx="1143000" cy="60984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71640" y="4038480"/>
            <a:ext cx="1219320" cy="11430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553440" cy="3714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in the stator pol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 the rotor bloc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56386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otor is released, it will accelerate to synchronou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steresis Power Loss,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971800" y="1447920"/>
          <a:ext cx="34290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447920"/>
                    <a:ext cx="34290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762120" y="2743200"/>
            <a:ext cx="77724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requency of flux reversal in the rotor (H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aximum value of flux density in the air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gap 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eat-power loss due to hysteresis (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chanical Power develop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90920" y="1371600"/>
          <a:ext cx="43434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3434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chanical Power Developed (con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19320" y="1523880"/>
          <a:ext cx="39560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39560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648320" y="44197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dependent of frequency and spe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steresis Motor at Synchronou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735280" cy="5334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14400" y="17524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ad and negligible rotational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16002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304812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ed rotor magnets remain locked with the rotating poles produced by the st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steresis Motor at Synchronou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76720" y="1523880"/>
            <a:ext cx="3141720" cy="495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2120" y="1752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a step increase in shaft loa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1523880"/>
            <a:ext cx="304776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tor slows down and the induced rotor magnets lag the rotating poles of the stator by an angl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otor returns to synchronous speed at the new torque 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19:10:46Z</dcterms:created>
  <dc:creator>Robert C Helgeland</dc:creator>
  <dc:description/>
  <dc:language>en-US</dc:language>
  <cp:lastModifiedBy>Owner</cp:lastModifiedBy>
  <dcterms:modified xsi:type="dcterms:W3CDTF">2011-11-09T16:03:42Z</dcterms:modified>
  <cp:revision>3</cp:revision>
  <dc:subject/>
  <dc:title>Hysteresis Motors</dc:title>
</cp:coreProperties>
</file>